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265-D97D-4311-A36A-D7E1731B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CD3-BC5B-45DD-9CA6-4075DCA2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DDF395-4CD6-459D-8DD0-E9D56FB9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4D809E-DBD6-4082-96F5-93D30999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969825-49C8-4F8C-92D9-F310DC60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0AB9C1-883E-4A8A-9986-8C04B4B3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8B7E32-22BC-4748-8FBD-A30CBFB6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BEFFF3-1627-4D05-8C2F-A891F67A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29BEF8-1D9C-4841-ACF7-D83F2F30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3D6F67-3FE7-4A77-84BE-48AF8745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ADE472-A555-4D5D-A7AD-AEEE8DA9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315144-EEF3-47EC-8253-7CF353D3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18C-2A1E-4818-AEE7-E1887C0C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F5E8C0-DF95-4873-A06C-855775BC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15062A-A1A7-4E29-9D34-3F00CA7C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57E7BB-8CD4-4C68-85D2-1F8C3B7E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8B5942-4503-4098-932D-3E1B3FA7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1F4F76-8EC8-49CD-8D5A-551A2182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58AD53-D775-4032-A811-E724D6AF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DE13EE-C848-490D-BE1C-AFE5ACCB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E04FBE-F2B0-49AD-9A78-F1BC6F66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AF6108-FC4D-4660-9C67-F9EBFEEA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11A790-DA66-4CB1-A3B7-C6C7FC59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EE0-EAE2-4E37-9BE0-D2ECEBFD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BE53C5-6BFB-4B56-A669-45952D00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4F6E6D-FCA6-4EE9-B3B8-633830A3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386B61-DBCF-46AF-8F07-DD447F71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459606-92DA-451B-BB5C-1DC2881A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10965B-5378-4C46-875F-6EF03B91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435A22-313A-4841-9153-97B7E933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1340E9-6E57-4146-9F91-86EAADB2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789B65-8D0C-4BEA-B388-63A59BB5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1B3680-1369-45C8-AB39-7E70C6C9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C5514A-0477-4EBD-9557-A33805AB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95F636-2080-49D2-BF0B-579DA8B2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C16930-4AEB-4BC1-B7AE-D7732977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EA5D3A-E750-485C-8981-13D98AF4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E05856-A6EC-4699-BFEB-8CA3ABE3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DC0AA2-8D23-425B-B56F-FBDCF73C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D25427-E3BE-482F-B086-4EF28304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643941-DAE8-40AD-8D7B-43777801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2B45EA-76AF-48F1-8CC6-01427803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F0F86C-5528-438C-A877-A23A6105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2C72BC-92E2-4117-9E9E-44204BED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45EE41-F69E-4E1C-A5F4-B7F79069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5192D3-296A-4358-97FF-A5C0B83E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2A0FF6-FBDC-40DD-A6A7-9B67C135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ACB515-9E73-4727-B9F9-3E4A0CDC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BB1F08-2A2B-4EC0-A1CE-9BCB0E8C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5D90AC-99EB-4107-BFE3-F92F7976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E744FA-4A89-4E1B-9C37-9559EA05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C09140-135F-4864-9932-8BDE8965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C309E3-F7A3-4785-88B9-E004C143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85AC64-8EA0-4890-BE2F-C5E9CA0B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80B24B-1C72-4DA8-A7A1-5D640B5D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3FD56E-74F2-4BE0-817A-40B9D26B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85DAB1-846A-40D4-8D7A-29F7C958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3B55B8-880A-4D7C-826D-1323EA86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FAA21A-6E50-4F6C-8067-D2B47DBE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B4619E-979A-4BC4-88B8-1F606A69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5C386E-6A29-40F6-9442-23E1850D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FE2-6CB5-46FB-ABCA-2444F1BB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FF937-CDA1-41D2-8FBB-17C73D8B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9E1BA-DDA8-48E3-9F3B-21CE8F01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D20B4-2713-4B52-BF46-97251B8D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3331D-6D77-46BE-8FDD-D0466163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B7912-F955-4860-B012-90348D5A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79E-705A-43FB-B2F9-492CC8D5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1876E-76F2-4C36-80E8-CB682A5F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CDB82-15ED-42CE-9863-C014F6AD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1D7D6-41CF-4AA9-9B40-E70A87B8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373BE-CE4D-4665-8910-8C350835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A66C5-34A9-4367-9CDF-0EEF3E4E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3FE8A-1AD5-418D-8A74-55D88ED0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4C89B-CB68-47F1-92D7-1C2B91EF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D1D28-7B80-47DC-A937-FF4058FF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CB5E6-EDA7-4B38-B5F6-DFD8078D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E6D8A8-4002-41FE-9A0D-D772172D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EDF-1515-415D-9043-3FF660E9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39A56-B18A-4CAB-930D-EE291FC9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4CA2B-CB0F-4D3B-B853-A059ADCF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515DC0-0843-4FC1-97EF-4D318EDE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58642-A12C-46E4-9062-A719CA87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6DBA2-B42B-4453-87DB-54C65F8C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19ED6-1C31-4306-93C8-1036B37E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0FC8FF-6467-408F-A13B-A1AC21E6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C15B8-9A85-4012-87EC-3DE59227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8A11F3-E2FD-4B80-8EF2-69FD01D1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19222-65C2-48F1-9BA3-F93C9C7C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D16-0D9F-4857-BE63-0BBC8648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99204-D532-4158-B50C-02EBA3EA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0A28D-9A8E-426C-926C-4A8BECEA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E4E78-1A28-4FAC-82CF-BFB92470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B6D2C-7AA6-4746-A520-7270BFE6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D28780-92CE-4AC5-BD06-E35FF450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06F0E-A310-4279-B186-5CD46F90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D3EA2-EEFD-4C21-89D9-A677A6A2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D73AE-1420-45BF-A35A-1241B422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A151B-FA11-4674-B07E-3983AF7A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AF4BB0-2CC2-4DF5-823B-B7C4790B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1CE-17E3-4CEE-8952-E64FFB06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C75F8-36EC-48A6-B132-42080893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CCD4DA-4AEF-4FE0-ABE8-6A292F40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99D5F-11A5-4657-8F17-BC787F76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71E3A2-3759-4894-B4FD-CBCBFD2A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F6F0C-842F-40F0-9B7E-F31A5EB6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8D60D4-7167-4AF6-A2A7-C7997D55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F33FC-D77C-4119-AF11-263144EC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DAEBC-AB5E-49D1-9387-98A477E8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C812D-155E-4F95-90B3-42A2DA75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21D69-19DD-4F96-9777-41128F2B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C14-BBC9-4A64-9BBC-E7E96026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725A6-0832-46AB-86BD-5709C467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A3CCBD-5E25-4C07-ADDC-9C023FA1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E6ED5-81F4-4018-A611-6E31AD8E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4CFA68-9F73-4BE0-8FC9-16768AC8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4C500-9BAB-48EB-8752-5D4522D2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62508B-8848-4E40-9158-345E6E9E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2C6B8-1C17-4BB8-8A60-76A0ED6B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716A54-4FDC-462E-AEE1-AB4467E0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C776DA-79DB-47D3-B3B3-B783DD8E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3D050-04DD-4503-938E-5DE3C495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8AE-42CC-43EE-8776-6715643A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4729B6-25B2-4A62-9B15-6D029DAC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CF9C02-7557-48AD-B439-9FC0C606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88ABB6-F854-4235-861B-82A75717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F4CE2-4EDF-4F80-BD1F-FB213071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92188-507F-47F9-A455-F4CA733B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2391E1-AFFF-4E3B-9A0B-E12022D9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401E8C-C9E7-4129-A35C-9D082ACB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177FB3-DEB0-4E57-91DE-1380B4B6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267F7B-75DF-4A7E-93D5-18398D9C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902F4B-9C23-4F29-A431-B7F702D5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0E4-F55C-471C-8079-748C8287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D9BBD0-6910-4C6B-84E3-13AE187C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02B742-0ECF-43CB-888E-0EB1CA2D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3B800A-5795-4366-85E0-EBFDF210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6536E5-C0FC-4A2E-8A79-A8432A56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A751CD-3CA8-4B53-9AC6-9172646E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FABF3F-AD1D-411E-B4C7-76F1BC62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E92EAA-8536-42C9-A931-59A9827C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36246B-210F-45DD-A3FC-40D34081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C2B1C4-EB32-4EEA-9E4E-9E15D756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A4F45C-A37F-462D-92B3-966CABA6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8026B-7D50-4E6B-975E-879A418DEE66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7110D-1700-4419-AD1E-1BFE1EBB47A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7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98D4E-90A9-45A0-A1D6-D3BBBB5EE9A2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8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9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03FE7-DC54-40E1-874E-B09578FC271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133F8-AC59-42E7-85F4-F028E2D5AE73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D951F-5478-4AB9-82ED-878AFDA3FCE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363BE-50E6-4A08-A133-5FB4AF80953D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4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5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05EE6-5454-4C27-BB83-52B4F253FF1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2D6A5-D711-4B8D-B772-231BF2125582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7FD92-D899-45A1-AA0F-53491615020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ver-TextureFore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9878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050BB-B53D-4847-BB9E-000D84615E95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2952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42533-8712-41DF-BA1B-867ED2675330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AC4A0-A1BB-4ECC-90F7-6954B6BB204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9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176C6-13FB-4DC5-BD05-F1A2A294C912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0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1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587AC-9D2C-4DAA-A02B-EB73CBF0C81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18143-3EAA-4D94-99A2-6C0E5D4F60E2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F66C8-F9CD-4730-9E71-6CF8D1EDCEC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8D584-BE5D-4DAC-9FEC-8305AF8225DF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7F233-DD00-464D-A2A0-BCB27903B00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CD22D-C972-408E-928B-57DB4686042B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57724-2F93-48E7-B45B-178889B5C93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89132-4AC0-4EDC-AA6D-F7476D14151B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EA179-7589-43E1-AEDD-6C00C288377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4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24AE9-46D5-4490-A02F-3FED2BDAA353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5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6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51628-4A0E-4A99-9987-F23F2079AB9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2"/>
          <a:stretch/>
        </p:blipFill>
        <p:spPr>
          <a:xfrm>
            <a:off x="2133720" y="334800"/>
            <a:ext cx="4647960" cy="617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1" descr="CPPA 3.jpg"/>
          <p:cNvPicPr/>
          <p:nvPr/>
        </p:nvPicPr>
        <p:blipFill>
          <a:blip r:embed="rId2"/>
          <a:stretch/>
        </p:blipFill>
        <p:spPr>
          <a:xfrm>
            <a:off x="2173320" y="304920"/>
            <a:ext cx="444492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" descr="CPPA 15.jpg"/>
          <p:cNvPicPr/>
          <p:nvPr/>
        </p:nvPicPr>
        <p:blipFill>
          <a:blip r:embed="rId2"/>
          <a:stretch/>
        </p:blipFill>
        <p:spPr>
          <a:xfrm>
            <a:off x="2362320" y="592200"/>
            <a:ext cx="4343400" cy="5952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1"/>
          <p:cNvSpPr/>
          <p:nvPr/>
        </p:nvSpPr>
        <p:spPr>
          <a:xfrm>
            <a:off x="482760" y="990720"/>
            <a:ext cx="9324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Essential Qualities Of A Team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Being adaptable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Collabo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Enlarging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Comm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Communicating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Showing compe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Being dependable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Showing enthusi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Being disciplined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Acting with i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Being prepared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Improving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Keeping the big picture in mind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Showing tenacity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Building relationship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Being selfless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Adapted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John C Maxwell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1"/>
          <p:cNvSpPr/>
          <p:nvPr/>
        </p:nvSpPr>
        <p:spPr>
          <a:xfrm>
            <a:off x="1100160" y="914400"/>
            <a:ext cx="69472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pyrus"/>
              </a:rPr>
              <a:t>Who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is the self that teach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pyrus"/>
              </a:rPr>
              <a:t>Why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do you do it like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pyrus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do you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pyrus"/>
              </a:rPr>
              <a:t>What</a:t>
            </a:r>
            <a:r>
              <a:rPr b="0" lang="en-US" sz="1800" spc="-1" strike="noStrike">
                <a:solidFill>
                  <a:srgbClr val="ff0000"/>
                </a:solidFill>
                <a:latin typeface="Papyr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do yo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Parker J. Pal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1" descr="CPPA 14.jpg"/>
          <p:cNvPicPr/>
          <p:nvPr/>
        </p:nvPicPr>
        <p:blipFill>
          <a:blip r:embed="rId2"/>
          <a:stretch/>
        </p:blipFill>
        <p:spPr>
          <a:xfrm>
            <a:off x="1041480" y="914400"/>
            <a:ext cx="71946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404040"/>
                </a:solidFill>
                <a:latin typeface="Candara"/>
              </a:rPr>
              <a:t>Voice from a learning community</a:t>
            </a:r>
            <a:endParaRPr b="1" lang="en-US" sz="39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2800" indent="-2628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Candara"/>
            </a:endParaRPr>
          </a:p>
          <a:p>
            <a:pPr marL="262800" indent="-2628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Candara"/>
            </a:endParaRPr>
          </a:p>
          <a:p>
            <a:pPr marL="262800" indent="-2628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“</a:t>
            </a: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I feel that I belong here. Yes there is a place for me and I know that here I make a difference. I have the power and the skills to change those things that need to be changed. I am known as an individual and I am prized for who and what I am. I know that people here care about me. They know when I am absent and they can sense when I am hurt. I feel needed. I am part of a learning family who need each other. I feel safe here. And most of all I feel fully myself.”</a:t>
            </a:r>
            <a:endParaRPr b="0" lang="en-US" sz="2000" spc="-1" strike="noStrike">
              <a:solidFill>
                <a:srgbClr val="404040"/>
              </a:solidFill>
              <a:latin typeface="Candara"/>
            </a:endParaRPr>
          </a:p>
          <a:p>
            <a:pPr marL="262800" indent="-262800">
              <a:lnSpc>
                <a:spcPct val="8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ndara"/>
            </a:endParaRPr>
          </a:p>
          <a:p>
            <a:pPr marL="262800" indent="-2628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andara"/>
              </a:rPr>
              <a:t>Glatthorn &amp;Jailall, 2000</a:t>
            </a:r>
            <a:endParaRPr b="0" lang="en-US" sz="18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1"/>
          <p:cNvSpPr/>
          <p:nvPr/>
        </p:nvSpPr>
        <p:spPr>
          <a:xfrm>
            <a:off x="1657800" y="1295280"/>
            <a:ext cx="456984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If not NOW 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WHE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If not ME 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WH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Jeremiah 1: 4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2209680" y="152280"/>
            <a:ext cx="4953240" cy="6604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1"/>
          <p:cNvSpPr/>
          <p:nvPr/>
        </p:nvSpPr>
        <p:spPr>
          <a:xfrm>
            <a:off x="100800" y="838080"/>
            <a:ext cx="889812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It  Takes A Whole Vill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To Educate A Chil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eamwork/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Adult language/learning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Powerfu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Commitment of all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he need to “stand tall”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aking “the long journey ho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1"/>
          <p:cNvSpPr/>
          <p:nvPr/>
        </p:nvSpPr>
        <p:spPr>
          <a:xfrm>
            <a:off x="1143000" y="762120"/>
            <a:ext cx="776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Papyrus"/>
              </a:rPr>
              <a:t>Standing Tall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Papyrus"/>
              </a:rPr>
              <a:t>The Long Journey Ho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Keynote address: David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It Takes A Whole Village To Educate A Chil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Oam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September 26 -28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1"/>
          <p:cNvSpPr/>
          <p:nvPr/>
        </p:nvSpPr>
        <p:spPr>
          <a:xfrm>
            <a:off x="572040" y="2133720"/>
            <a:ext cx="7130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Papyrus"/>
              </a:rPr>
              <a:t>Khulisa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– </a:t>
            </a: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a child must gr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Credo Mut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1"/>
          <p:cNvSpPr/>
          <p:nvPr/>
        </p:nvSpPr>
        <p:spPr>
          <a:xfrm>
            <a:off x="990720" y="457200"/>
            <a:ext cx="76197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What migh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hree Scottish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wo US Delta Rangers in Mogadish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A Polish paediatr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…   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have in common with a group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educators in Northern Otag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ew Zeala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8" descr="DownloadedFile-7.jpeg"/>
          <p:cNvPicPr/>
          <p:nvPr/>
        </p:nvPicPr>
        <p:blipFill>
          <a:blip r:embed="rId2"/>
          <a:stretch/>
        </p:blipFill>
        <p:spPr>
          <a:xfrm>
            <a:off x="1523880" y="2701800"/>
            <a:ext cx="2827440" cy="37195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DownloadedFile-8.jpeg"/>
          <p:cNvPicPr/>
          <p:nvPr/>
        </p:nvPicPr>
        <p:blipFill>
          <a:blip r:embed="rId3"/>
          <a:stretch/>
        </p:blipFill>
        <p:spPr>
          <a:xfrm>
            <a:off x="1209600" y="657360"/>
            <a:ext cx="1490760" cy="1919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0" descr="DownloadedFile-9.jpeg"/>
          <p:cNvPicPr/>
          <p:nvPr/>
        </p:nvPicPr>
        <p:blipFill>
          <a:blip r:embed="rId4"/>
          <a:stretch/>
        </p:blipFill>
        <p:spPr>
          <a:xfrm>
            <a:off x="3200400" y="290520"/>
            <a:ext cx="3543480" cy="2286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2" descr="mattias.gif"/>
          <p:cNvPicPr/>
          <p:nvPr/>
        </p:nvPicPr>
        <p:blipFill>
          <a:blip r:embed="rId5"/>
          <a:stretch/>
        </p:blipFill>
        <p:spPr>
          <a:xfrm>
            <a:off x="4915080" y="3375000"/>
            <a:ext cx="1828800" cy="3046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Box 1"/>
          <p:cNvSpPr/>
          <p:nvPr/>
        </p:nvSpPr>
        <p:spPr>
          <a:xfrm>
            <a:off x="264960" y="990720"/>
            <a:ext cx="92332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The child has the right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Re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Optimal conditions in which to grow and 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Live in th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Be herself/him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To make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To be appreciated for what he/sh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Desire, claim,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Protest an in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1"/>
          <p:cNvSpPr/>
          <p:nvPr/>
        </p:nvSpPr>
        <p:spPr>
          <a:xfrm>
            <a:off x="990720" y="914400"/>
            <a:ext cx="691992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What a fever or cough 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nausea is for the physicia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so a smile, a tear, a bl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should be for the educato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Medicine concerns it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only with curing the sick chi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but pedagogy cou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nurture the whole chil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Janusz Korcz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1"/>
          <p:cNvSpPr/>
          <p:nvPr/>
        </p:nvSpPr>
        <p:spPr>
          <a:xfrm>
            <a:off x="762120" y="457200"/>
            <a:ext cx="150796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The Childrens’ Republ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Children are not the people of tomor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but people of today.They are entitled to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aken seriously.They have a right to be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by adults with tenderness and respect, as equal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ot masters and slaves. They should be allow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grow into whoever they were me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o be: the “unknown person” inside each of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is the hope for the futu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Janusz Korcz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22:17:28Z</dcterms:created>
  <dc:creator>David  Anderson</dc:creator>
  <dc:description/>
  <dc:language>en-US</dc:language>
  <cp:lastModifiedBy>St Joseph's School</cp:lastModifiedBy>
  <dcterms:modified xsi:type="dcterms:W3CDTF">2010-09-29T01:15:10Z</dcterms:modified>
  <cp:revision>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420000000000010242200207f6000400038000</vt:lpwstr>
  </property>
</Properties>
</file>